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F5A-54A6-47AF-8F22-854A1D95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2DD-C004-40D6-B8F7-7EC34F6A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1202-7EAB-4220-8CB6-18C38EA5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924-560F-4E09-9C4B-2A5910E8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DF8-296E-4BF1-B1D4-4711664B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FE5C-B4F7-4074-8269-2DFC440B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512-2B3F-4D00-8ABB-39FD8AED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ED2E-DC83-4387-9261-440FC12F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85B-45EB-4F6C-9C5A-86DFD36C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34F-3747-4125-A54B-CB9DD944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D5BA-2CEE-437B-9211-2D08E798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89D6-7264-4942-986E-F0F5ED4A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061A-75F6-43EB-8380-0BCF5A830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5, Less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4572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457200"/>
            <a:ext cx="8153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___________ was the steward of the property 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isappointing news did he bring Dav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id Shimei do as David was approach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hur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bishai wanted to kill Shimei, how did David look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his sit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Hushai satisfy Absalom when questione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why he had not stayed with his friend, Dav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3040" y="4572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i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39400" y="838080"/>
            <a:ext cx="384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phibosheth, grandson of S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19810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phibosheth stayed in Jerusalem thinking the kingdom would return to him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shall see later that 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s was a false insin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8769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d may have sent him to curse him, or God will do good to me for this ab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35053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sed David, and threw rocks and dust at David and his compa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64008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will remain with the one chosen by the Lord and the 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4572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5720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as the first advice Ahithophel gave Absal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prediction had Nathan, the prophet, made to David about his w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dvice did Ahithophel give Absalom about capturing and killing his fa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was this plan not carrie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Hushai get his warning to Dav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0200" y="990720"/>
            <a:ext cx="72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 and lie with David’s concubines; it will be a stench to Dav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24382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s wives would be lain with in public before all Isra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6095880"/>
            <a:ext cx="739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ushai told the priests who sent a woman to tell their sons who were waiting outside the city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8862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 me chose 12,000 men and I will pursue David to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495288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ushai advised that they gather a large army from all of Israel and then go after David (remember his military savv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4572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45720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Jonathan and Ahimaaz escape being captured by Absalom’s m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become of Ahithoph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_______, _____________, and _____________ brought food and supplies to David at Mahana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bsalom’s forces crossed the Jordan into Gilead, ___________ was his chief cap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of the Psalms are thought to fit in the period of Absalom’s rebell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371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hid in a well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wo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ed while she worked the co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3623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he saw that his advice was not taken, he knew David would win the battle and he knew his fate having rebelled against Dav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4495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601992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alm 3 fits the period of Absalom’s rebell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0481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b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rzill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02:43:25Z</dcterms:created>
  <dc:creator>Frank D Vines</dc:creator>
  <dc:description/>
  <dc:language>en-US</dc:language>
  <cp:lastModifiedBy>Frank D Vines</cp:lastModifiedBy>
  <dcterms:modified xsi:type="dcterms:W3CDTF">2005-07-09T03:29:16Z</dcterms:modified>
  <cp:revision>8</cp:revision>
  <dc:subject/>
  <dc:title>Questions and Answers</dc:title>
</cp:coreProperties>
</file>